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4AE-06B4-4049-BBC8-5917A5EF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C65-45B2-423C-B5C1-0EB99009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29C-3260-4785-8A66-88B4EA4A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1F6-5642-4817-B28C-B50AC0C6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5D1-7997-43CD-BDA2-8C08AD69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B80-FEDB-4D50-B4B7-D11A5C37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CDF-9DE6-4ADF-A771-5B28670D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B67-35E0-49EA-84DE-C374068A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7A7-CE84-4B17-9FAE-CB4805AE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A1F-4891-41DD-9B73-E774CEBF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8F1-B2C5-44E3-868D-C0037127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2BF-E41E-4AF9-81A3-F3FB056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50D1-1C6B-443D-9700-7F934AE6D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7993080" cy="532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655640"/>
            <a:ext cx="1368360" cy="4437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2065320"/>
            <a:ext cx="6624720" cy="402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5560" y="17496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760" y="222552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9640" y="2174760"/>
            <a:ext cx="0" cy="344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5160" y="382428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188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6880" y="4467240"/>
            <a:ext cx="423720" cy="2318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9" idx="3"/>
            <a:endCxn id="51" idx="0"/>
          </p:cNvCxnSpPr>
          <p:nvPr/>
        </p:nvCxnSpPr>
        <p:spPr>
          <a:xfrm flipH="1" flipV="1">
            <a:off x="812880" y="3429000"/>
            <a:ext cx="208080" cy="1154520"/>
          </a:xfrm>
          <a:prstGeom prst="bentConnector4">
            <a:avLst>
              <a:gd name="adj1" fmla="val -114038"/>
              <a:gd name="adj2" fmla="val 120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2" name="" descr="draw-text.png"/>
          <p:cNvPicPr/>
          <p:nvPr/>
        </p:nvPicPr>
        <p:blipFill>
          <a:blip r:embed="rId1"/>
          <a:stretch/>
        </p:blipFill>
        <p:spPr>
          <a:xfrm>
            <a:off x="32637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480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6798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0970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076480" y="906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556000" y="906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0166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6008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1848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690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4432320" y="55389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160" y="26370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609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429000"/>
            <a:ext cx="114480" cy="1144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160" y="51786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77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886120" y="2786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2886120" y="3232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6480" y="332100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6480" y="383544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73533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76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2843280" y="37465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3960" y="332100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86440" y="383544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6120" y="466416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8920" y="438300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se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8560" y="474984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76960" y="2637000"/>
            <a:ext cx="0" cy="24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98000" y="2813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8360" y="3259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97640" y="377352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780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140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846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182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5148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83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5336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82880" y="504972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4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1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48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82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15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01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15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152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81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14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49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84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81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78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482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17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5:40:40Z</dcterms:created>
  <dc:creator>Jon Peirce</dc:creator>
  <dc:description/>
  <dc:language>en-US</dc:language>
  <cp:lastModifiedBy>Jon Peirce</cp:lastModifiedBy>
  <dcterms:modified xsi:type="dcterms:W3CDTF">2008-09-28T16:27:18Z</dcterms:modified>
  <cp:revision>4</cp:revision>
  <dc:subject/>
  <dc:title>Slide 1</dc:title>
</cp:coreProperties>
</file>