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9831-7B4E-4649-9CCF-2A43EC32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C46-F722-4870-B01E-B2181D62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E6BB-C5C5-42BC-9A66-5EE2180A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15FA-A0D6-4E07-9A0C-F3AC21B2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0FE-0B30-4E15-AF21-D44F04A7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6D6-07BF-425E-A9BE-99E21EAA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E89-5D12-4AEF-B88B-9D0A1682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7481-3C3E-4CAC-ADA3-1E246709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DAC-4F11-49FB-BFCD-8A2E4253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940-B3FB-4283-BD88-00809A41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0730-D6C6-4ED4-88E0-D96AD223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5F4-5980-4DE0-B3A3-D544C87D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9830-F7A3-43F9-A3FC-D2948135F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765000"/>
            <a:ext cx="7993080" cy="532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655640"/>
            <a:ext cx="1368360" cy="4437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2065320"/>
            <a:ext cx="6624720" cy="4027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5560" y="17496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75760" y="222552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9640" y="2174760"/>
            <a:ext cx="0" cy="344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5160" y="382428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188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6880" y="4467240"/>
            <a:ext cx="423720" cy="2318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9" idx="3"/>
            <a:endCxn id="51" idx="0"/>
          </p:cNvCxnSpPr>
          <p:nvPr/>
        </p:nvCxnSpPr>
        <p:spPr>
          <a:xfrm flipH="1" flipV="1">
            <a:off x="812880" y="3429000"/>
            <a:ext cx="208080" cy="1154520"/>
          </a:xfrm>
          <a:prstGeom prst="bentConnector4">
            <a:avLst>
              <a:gd name="adj1" fmla="val -114038"/>
              <a:gd name="adj2" fmla="val 1200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2" name="" descr="draw-text.png"/>
          <p:cNvPicPr/>
          <p:nvPr/>
        </p:nvPicPr>
        <p:blipFill>
          <a:blip r:embed="rId1"/>
          <a:stretch/>
        </p:blipFill>
        <p:spPr>
          <a:xfrm>
            <a:off x="326376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480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6798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0970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076480" y="906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556000" y="906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0166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60088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61848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6908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4432320" y="55389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5160" y="263700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6092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429000"/>
            <a:ext cx="114480" cy="1144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5160" y="517860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772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2886120" y="27860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2886120" y="3232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6480" y="332100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6480" y="287496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6480" y="383544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4"/>
          <a:stretch/>
        </p:blipFill>
        <p:spPr>
          <a:xfrm>
            <a:off x="735336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76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2843280" y="37465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6480" y="2874960"/>
            <a:ext cx="502272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33960" y="3321000"/>
            <a:ext cx="175248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86440" y="3835440"/>
            <a:ext cx="175248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6120" y="4664160"/>
            <a:ext cx="541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8920" y="4383000"/>
            <a:ext cx="7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 (se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68560" y="474984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 (fr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76960" y="2637000"/>
            <a:ext cx="0" cy="24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98000" y="281304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x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98360" y="32590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97640" y="377352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7800" y="45925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5140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8464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1824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5148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832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53360" y="45925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82880" y="5049720"/>
            <a:ext cx="541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45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814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813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48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82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84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150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501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15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152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817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147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149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84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815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478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480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482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17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5:40:40Z</dcterms:created>
  <dc:creator>Jon Peirce</dc:creator>
  <dc:description/>
  <dc:language>en-US</dc:language>
  <cp:lastModifiedBy>Jon Peirce</cp:lastModifiedBy>
  <dcterms:modified xsi:type="dcterms:W3CDTF">2008-09-28T16:27:18Z</dcterms:modified>
  <cp:revision>4</cp:revision>
  <dc:subject/>
  <dc:title>Slide 1</dc:title>
</cp:coreProperties>
</file>