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40B-5209-4E77-99E9-B7D3FB78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67C-4996-432E-9EFF-30A0D727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8D5-55ED-4944-82CB-1F2E9ACC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077-53C9-42E5-8575-2E817D7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6A9-58CB-40A4-817E-4B551F7F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51F-3CAD-4FC6-ABC5-30FB2C91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C0D-1F7F-4620-9A6D-55946640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A81-C3A5-41F6-AED8-9403128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5D1-6EFA-42AF-9A54-CC79F13F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EB7-08B1-4F55-9553-3D8707B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79B-70E9-4457-80DA-42E66F0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F62-92E8-46CA-A2F1-07F1272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2B2-0848-4A3A-B5F7-0DABBDF3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Chris Nokleberg</dc:creator>
  <dc:description/>
  <dc:language>en-US</dc:language>
  <cp:lastModifiedBy>Chris Nokleberg</cp:lastModifiedBy>
  <dcterms:modified xsi:type="dcterms:W3CDTF">2004-05-06T19:43:19Z</dcterms:modified>
  <cp:revision>1</cp:revision>
  <dc:subject/>
  <dc:title>PowerPoint Presentation</dc:title>
</cp:coreProperties>
</file>