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549-03FC-42FE-862D-89ED3A40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E56-FDFD-4523-A636-2FE7442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88F-61D7-4487-B7C3-97F13340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13C-B0AC-4BE8-8ADB-06F57667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3643-F077-4BC3-B915-A96E0A78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C2E-4B8D-4965-9B80-2C70022E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789-0D9C-44F5-9412-38D6C03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987C-6BDD-48B2-9BDC-5A3F1168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79BB-D040-4664-B473-F71132E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050F-DA1E-4F98-8F9B-F7D0F52F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143-36D8-4ECC-8072-EEBB6C80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748-E29E-4585-BA2C-6BA180D0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B59-B2B6-4699-85ED-B15090B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709B-F5A9-4F2B-995E-BA6C917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3CD-90C9-457E-A605-AA35D6B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5735-4120-47AF-89E3-F8A241D9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6E2F-D627-4506-8303-50F59ABB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622-4E13-439F-A922-985C368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E24-1448-429D-A213-6EE0CA1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670-B325-41E9-9D3C-02B26586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680-6E93-4C7C-ABCC-8AD328E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8F8-E285-4500-AD0C-F64972F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B45-F0E1-4C48-B8D3-4BD3BAD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69D-BCFE-4E95-B98D-DC5D8AD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822-3052-4197-A323-8D3CA4624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44F7-EBCF-4E12-B8C3-91CD31542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21:46:12Z</dcterms:created>
  <dc:creator>Chris Nokleberg</dc:creator>
  <dc:description/>
  <dc:language>en-US</dc:language>
  <cp:lastModifiedBy>Chris Nokleberg</cp:lastModifiedBy>
  <dcterms:modified xsi:type="dcterms:W3CDTF">2004-10-22T21:46:23Z</dcterms:modified>
  <cp:revision>1</cp:revision>
  <dc:subject/>
  <dc:title/>
</cp:coreProperties>
</file>